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2AB90-1375-4565-8092-4127035157D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move the slide</a:t>
            </a:r>
            <a:endParaRPr b="0" lang="en-US" sz="4800" spc="-1" strike="noStrike">
              <a:solidFill>
                <a:srgbClr val="ffffff"/>
              </a:solidFill>
              <a:latin typeface="Corbel"/>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5AE36-5E0C-4B28-9C78-5E1BC87B6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 school students in Erie, PA piloted a tablet PC program in 2004. The students enjoyed using the tablet PCs to enhance their learning, and especially liked the pen format for input.  (Fitzgerald, 2004).</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nn State University integrated tablet PCs into their engineering courses.  They studied the benefits of the tablet PCs for both the students and professors. (Tablet PCs in Engineering Education, 2005).</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lementary school in Ontario, CA purchased tablet PCs in 2003 for their students to use in the classroom. The tablet PCs were able to nearly replace all paper in the classrooms they were used in. (Reid, 2004)</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rnwallis Technology College purchased tablet PCs in 2002 to be used by students. The teachers and students enjoyed using the tablet PCs and especially liked the hand writing features of the tablet PCs. (Using RM Tablet PC at the Cornwallis School, 2009)</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lack of success with the early pen computers may be a deterrent to the diffusion of tablet PCs. This may cause some people to be laggards when it comes to tablet PC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omeone is not a strong supporter of technology use in the classroom to begin with, then they will probably be laggards for diffusion of tablet PCs as well.</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3DD06-42C2-4F95-B1A5-0E63A7505F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diffuse tablet PCs in education, I think that educators, administrators, and parents need to realize the relative advantage that tablet PCs have over other educational technologies. They would also have to realize the compatibility that tablet PCs have to enhancing students’ educational experiences. (Rogers, 2003)</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00A85-85BB-4437-9302-36DBE7920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t PCs fulfill the need to be able to hand write input into a computer instead of having to type. This is useful in instances when a person cannot or doesn’t know how to type, or if someone is a slow typist and prefers to hand write for speed purpo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ablet PC also enables someone to sign something in an electronic format. This feature has many uses for legal documents and other things that require someone’s signa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people who have problems using a mouse, the touch screen feature of a tablet PC enables the user to operate the computer by touching the screen.</a:t>
            </a: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61F5D-A8CD-46A9-9CAF-AB547F517A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aid that pen technology would replace keyboards. Handwriting was easier than keyboar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Charles Elbaum created the NestorWriter. Communication Intelligence Corporation created another handwriting recognition software, and there were many other types of this software developed also (Blickenstorfer,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s thought that the pen would replace a mouse and pen computers would replace desktop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C5FDF-21ED-4B7D-9D0B-F3AB66443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BM ThinkPad was first a slate compu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from Blickenstorfer, 2005</a:t>
            </a: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0AAD9-56EB-4E69-BABB-4148B5A1E3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from Blickenstorfer,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ss was enthusiastic about the pen computers until they were unsuccessful &amp; then they criticized the technology (Blickenstorfer,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 lost $70 million when pen computing failed to diff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ablet PCs were introduced in 2002, Microsoft talked up the “digital ink” feature of the tablet PCs and did not mention much about the handwriting recognition features. </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4D3C1-DFD6-44B4-958D-B3CD2129C3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Microsoft launched the Tablet PC, they chose to downplay its voice and handwriting recognition capabilities.  This is because the recognition software does not work the way a user would like it to. It is difficult to get recognition software to automatically recognize someone’s handwriting or voice.  The user is required to do a lot of adapting to the software as opposed to being able to talk or write as normal.  The software is not able to adapt to the user.  This frustrates many users who think that they should just be able to use the software immediately and have the computer recognize their speech or handwriting.  Microsoft chose to advertise the other capabilities of the Tablet PCs. For example they discussed how the tablet PC uses digital ink. Users write on the screen and the computer captures their handwriting digitally. This can be saved and accessed lat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arly 1990s when slate computers were first introduced, the technology available at that time was not able to support what they were supposed to be able to do.  In 2002, when the tablet PC was introduced, advancements in technology enabled it to perform much better than the earlier slate computers di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eb Buyer’s Guide has reviews of Tablet PC educational softwa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rticle gives a number of things to consider before buying a tablet PC.  For example slate vs. convertible, optical drives, screen size, software, warranty, etc.</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5D037-115A-42EF-8104-1912FF460D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 York Times article discusses how tablet PCs are being used in today’s classrooms by students. It gives examples of how they can be used to eliminate the need for paper notebooks, improve interaction between teachers and students, and eliminate the amount of “busywork” that teachers assig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a number of online games that students can play using their tablet PCs.  This link shows math games.  One of the math games helps students learn about coins.</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BD9AA-D251-46C1-9501-8F432F2FDB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numerous software programs that are available for tablet PCs.  Since people are using the tablet PCs, there is a need for specialized software.  If the tablet PCs were not being used, this specialized software would not exist.</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DE192-109B-406B-AA87-E53F5193D3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arly 1990s when the pen computing was first introduced, there was minor penetration of this technology. After 1994, pen computing was basically a dead technology.  In 2002, Microsoft introduced the tablet PC. With the introduction of tablet PCs, Microsoft had a 7 year plan for the full penetration of them. Part of that plan involved the release of Windows Vista and specifically a version of Vista that supported the tablet PC platform.  Microsoft is not unpleased with the penetration of the tablet PC thus far because they anticipate penetration levels to greatly increase after the introduction of Vista to support tablet PCs.  They feel that the tablet PC is following their predicted pattern for penet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 Walker, 2005</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2F8C4-28DF-4BEB-8911-EAA3EEBB83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68CEE-227F-4630-A54C-6A5916251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C89EC-AD61-4843-8AA0-70EE21C2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781F0A-4A08-49F4-BA62-E8204CC0AE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CE372-9549-48F7-A33B-90D0E199C0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0B0B2-0403-4A28-817E-B3F0EB00EF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9DFC85-8355-4CEB-87E3-38BF55D4F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501B8-D7AD-4281-A7DD-CD6B8A036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2AE708-C880-42A9-AB7E-DC5592207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39FD43-5C20-4D38-9259-A64A24CC93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C7ECBB-694D-46AA-B03D-6B0F670F54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8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292A9A-3764-401A-85DB-F26C89D8CF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42F678-1370-4AA0-A522-8BD730FF61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9CBFB-7AF3-4C93-A631-245436E8B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EA0FD2-F5A7-4D68-95AC-990E5590CB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4E83A7-0DE3-45CE-BD09-E286943E9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09BD03-767F-4C1E-86B1-4A37B9B1B6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EF991C-6A24-4711-8BE0-0D7D62485D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C76A87-70A2-4E52-AB6C-CAA3CFF7C4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485192-186E-467F-A366-32C30B89FC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A4E80F-9ECC-44EF-BE26-D6B293EE46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FE41DB-9A1B-4539-91D4-ADD3E198E4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02D65D-1D54-4FDB-A29D-9660DAE8E5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5F997E-910F-4103-ACD2-32E260DA7D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05A26-9A80-41CC-A0FA-04D81C06A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3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73CADD-B195-4C53-B041-80489A889A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2914A3-9143-47C2-B2C6-CC48332D49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3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CBB915-7A49-4031-A9BC-D9BF9BBAA3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82BBCC-01AA-4BA8-AC74-BDE639EF94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40371E-71D3-4511-8EC1-9A3DD70F18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FEB4DE-21C1-4345-8B60-C51ED2D06C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286655-2CA1-4F7F-B93F-287D7F382A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AE2CCB-6BE6-4B07-8C40-BD705D9DF7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A9F02A-A0B6-4BBF-8B5B-99A491A014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C8E2BD-D7BE-4769-80ED-C10A6935B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562AF-085F-45A9-AD20-2E800E280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BFD274-78E8-4D53-86F2-93EDB15D80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DD5368-1849-4F07-8D1A-40F4F4E311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FFC7A7-9C6D-449E-A039-DB3AB4C386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BF73F4-8B6E-4406-B748-B26F11AE67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7C9155-BB3F-4ADF-9018-D4054C90DA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BE6D8B-A335-49A4-9129-70A014F49B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8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67D16C-5A57-4CBB-83BB-390DF15F3C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7D3D89-9C31-4958-9D8B-08B6BC7E7E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B7196E-D97B-48A5-9BEE-2BADC6E1FA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395BC6-B8C0-4BD3-A0D1-84A318564B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8E356-C7E7-4AF8-82B3-2F3C758D0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5FEE44-3E4A-46BB-9C26-0E7528CEDE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DA2A16-9445-4BCB-9F64-41212F5666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AD7E88-BE7C-4E4F-8F05-7EF7D173DA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C7B089-8A12-432B-A50A-0481E9E570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1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69C1FA-F228-4421-B64F-D35F2A03DF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3234A8-0AB1-426E-9A01-09DEE2EE52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886C52-3F78-4F2B-80CD-C00984486F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FF30AE-E7CF-471F-8A62-8FEBB378BF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2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767EAA-5EF9-4221-869E-33A59DB643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C8239D-886F-4F1D-8F8C-F4690E52C7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51345-CAD1-4752-B9E5-7E9DB33B1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C61375-7D11-46B6-8CC5-37C489F447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043B16-7C2F-4B5C-BFB6-98988C284E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7EB49B-6CF4-4004-928B-57AD1A1F6C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88BE01-5FB9-4EE8-81FB-5C75AD7D80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5FFE58-C84B-43B1-8FD6-706A46B6D7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0F71BF-202B-46CE-B07D-C140C6C8EFB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5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D4E2A5-E673-4608-B092-1F9E92EA31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4C60A-C2E3-4B83-B7C0-02A27F7FF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14B8F-3B83-4ED3-8C58-88B60D906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887C2-7F38-4045-94AD-47B7BE39B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AB348-7B40-42EE-BE65-7EDB457F6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7D37-C625-4392-9AFE-B250B765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2BFDB-B873-41D2-9003-40C313FD0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85A29-3542-428C-B901-4C5704D1A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9E627-7413-43E9-86D7-AF4D68942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FAF17-E771-4EC5-B3C2-419A06271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47336-0320-4E20-BCF0-2B87C2D8B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B15924-A478-494F-9229-2D5708BED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408368-4329-460F-B461-DE482B8D7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B51D0-6E8D-4528-A750-C7D538E25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7D755B-5468-4CAB-8557-BA500B175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363EF-14FC-43E6-A397-478ABC06C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10A6A-E372-4A6B-ACB9-CA8667C7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1BD1F-5F9D-4B72-BFF6-BCEA5A686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B5FCE-960F-440B-B7A1-E5D540A65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74599-1839-4452-9A95-615DAD536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40BB0-DE27-415A-9CBB-3F0534AB7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6CD9B-8160-4FEB-9E55-8E741F087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433F4-C9E6-41EC-93F4-FFF57AF2B7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2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DB315-F94D-402D-AA7C-D354C9C8CC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27A077-00B9-4870-8936-E3F0AE7E62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3B002-3309-447E-A536-DF099378F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D0BBA-1ACA-4F91-BE9B-9A6CC703A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ECCC2-D6F7-47EF-912F-D4B0E5C6E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3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BDB9A-EA2C-4853-B8E8-998E04533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FA8DE-461B-412F-9209-45F5F48D8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28931-BFD9-4158-8774-96E891052A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3EA64-37C5-40E1-AD1E-D423857C8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B097B-220F-4B1B-8B4E-EBB75D18B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B6F82-38DD-43C1-AAEB-BCAA3376E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581DE-4B07-47ED-AF3A-9321B0697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E36842-86DD-4ABE-ABC6-9D58D535A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6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7B5D8F-CAED-4221-8DB3-EB52ED0AD1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282093-503A-4CDD-B4E0-70D243EDB3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7849-727C-4C90-8C10-43DEDADB4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7"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122DC-5815-423E-BB4C-470D6B838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9"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01618-DCA3-42BC-B79B-216118FB3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EE92D7-39CB-466D-8C40-C4C7468DF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E5FA1-F0A9-4896-A2AF-73327082A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C292D-49F6-4148-BA3A-182BBFD235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D5BA6-A7F5-4E2B-BB93-2D3EA6E45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2"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28440-E66A-4232-AD3A-949A2D0ED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4"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6"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44EF6-6E87-46B4-802B-D904E139B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8"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9"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9403D-E6B8-4342-BF83-0A384A139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4"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A5DD5F-8FFD-455B-9FE8-E76976368C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2D67-5BA7-4026-9465-D18167D8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6"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7"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8"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9"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0"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1"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3C0C2-A675-45B6-AE82-A6FA15C665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EAC53C-12FB-4243-BCBA-D47C300E3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9FC9E-D4C9-4961-BAAD-773C9843FB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A69DD-80C4-49B2-97C7-F6257C87E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FEEFD-D573-4BD7-9317-E4D7EDF6C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AA40D-248B-4A42-8585-E1A9F2C48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5BB47C-629E-4559-B19E-EF54E3070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F4F3F-2981-443E-8635-A715CE299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232FA-84B2-448D-861E-25DB68C65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9BBE7-98FD-4A80-9734-D8413C615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415D-BFE1-4667-92E2-5954F6C4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B27F0-216B-4865-B4B4-9D578B7A8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553DF4-DB94-4650-8270-AF7FD7E9F7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6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B60025-2AD3-41A0-9395-01FABF1F66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538A5C-6C9A-435E-85E3-9341936F89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69"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5E3A1-0234-4BBA-A1A6-6569DC380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1"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E8375-8200-4E93-84BB-D003E85C9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3"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693BB-5251-4FEF-806E-7CF1B020B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BDC180-F514-4E13-A252-408A5827B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3B13C2-05AF-4F25-89D9-11AEA21C0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8762FB-D8EE-4D43-9D18-F80C1830DE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52C1-C09A-454E-9F23-D9ED973E0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4"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7AAEA-525A-44D8-A6B7-5FBED16A0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8"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A6B15-4011-41A0-AF31-ACE0574D3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0"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1"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A6710-58E7-437C-9009-BFD986086B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6"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D108E5-A03C-41B6-A350-225CE6E43E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8"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9"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0"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1"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2"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3"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0D925-398D-4FA3-8B09-7076B9C08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1A271E-B70B-4A1D-85B5-E01CF2FD56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2"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976F1-5677-4A08-9CCD-5E86C77F87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4"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BA063-CFE8-4453-A9D8-CE334B3870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6"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96EF3-32E5-447E-B971-372E455B5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49AD7-6F5E-4629-937E-B39306299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5376-3191-4518-8391-BB9CAF21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D7D7D-5C1D-4EF1-97C5-B7ED17F804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FB6DA4-09DC-49D6-9174-C2670B406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7"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9E658-9A5A-4637-9A96-9CBBFD90EE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9"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1"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5B03A-5D2E-48F7-B3A6-F317926FC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3"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4"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AFC78-7851-47FE-82ED-C2C3BC194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9"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B859DC-7292-42FE-AB9D-5BC8DAC837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41"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2"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3"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4"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5"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6"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158A06-00FF-4FA2-99A8-257DBADED1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8627E8-D9CB-45F0-90C1-1BD39C4D26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48830F-94B6-44B2-B47A-7ED3619643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BE88C2-7797-4765-B1C6-2EECAF4F0E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 name="PlaceHolder 3"/>
          <p:cNvSpPr>
            <a:spLocks noGrp="1"/>
          </p:cNvSpPr>
          <p:nvPr>
            <p:ph type="dt" idx="1"/>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1C6D5-8270-475F-B8E8-6200A1B754A7}"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223FC-A491-4C06-8060-FE7CA94C8641}"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9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92" name="PlaceHolder 3"/>
          <p:cNvSpPr>
            <a:spLocks noGrp="1"/>
          </p:cNvSpPr>
          <p:nvPr>
            <p:ph type="dt" idx="28"/>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52FC5-E8C7-4EC5-827C-1D2A0ABE71E0}"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393" name="PlaceHolder 4"/>
          <p:cNvSpPr>
            <a:spLocks noGrp="1"/>
          </p:cNvSpPr>
          <p:nvPr>
            <p:ph type="ftr" idx="29"/>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4" name="PlaceHolder 5"/>
          <p:cNvSpPr>
            <a:spLocks noGrp="1"/>
          </p:cNvSpPr>
          <p:nvPr>
            <p:ph type="sldNum" idx="30"/>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D6A7A-EA10-43BA-8FEE-B1CBB8C53FB0}"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34" name="PlaceHolder 3"/>
          <p:cNvSpPr>
            <a:spLocks noGrp="1"/>
          </p:cNvSpPr>
          <p:nvPr>
            <p:ph type="dt" idx="31"/>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CB9E1-BEC4-41C1-A5A1-2F51721155A8}"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435" name="PlaceHolder 4"/>
          <p:cNvSpPr>
            <a:spLocks noGrp="1"/>
          </p:cNvSpPr>
          <p:nvPr>
            <p:ph type="ftr" idx="3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5"/>
          <p:cNvSpPr>
            <a:spLocks noGrp="1"/>
          </p:cNvSpPr>
          <p:nvPr>
            <p:ph type="sldNum" idx="33"/>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E193D-AB52-4705-A26F-C9741ACF52C5}"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7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77" name="PlaceHolder 3"/>
          <p:cNvSpPr>
            <a:spLocks noGrp="1"/>
          </p:cNvSpPr>
          <p:nvPr>
            <p:ph type="dt" idx="34"/>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E792E-35A6-4D35-9276-D22E190BA1F1}"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478" name="PlaceHolder 4"/>
          <p:cNvSpPr>
            <a:spLocks noGrp="1"/>
          </p:cNvSpPr>
          <p:nvPr>
            <p:ph type="ftr" idx="3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9" name="PlaceHolder 5"/>
          <p:cNvSpPr>
            <a:spLocks noGrp="1"/>
          </p:cNvSpPr>
          <p:nvPr>
            <p:ph type="sldNum" idx="36"/>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C6DBF-4C25-4623-8537-B91C411C6620}"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51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520" name="PlaceHolder 3"/>
          <p:cNvSpPr>
            <a:spLocks noGrp="1"/>
          </p:cNvSpPr>
          <p:nvPr>
            <p:ph type="dt" idx="37"/>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A3FB4-4B53-48ED-80C2-E73558070422}"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521" name="PlaceHolder 4"/>
          <p:cNvSpPr>
            <a:spLocks noGrp="1"/>
          </p:cNvSpPr>
          <p:nvPr>
            <p:ph type="ftr" idx="3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2" name="PlaceHolder 5"/>
          <p:cNvSpPr>
            <a:spLocks noGrp="1"/>
          </p:cNvSpPr>
          <p:nvPr>
            <p:ph type="sldNum" idx="39"/>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1C569-2F1F-4A51-85D7-E9B2E48AFDBA}"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Rectangle 6" descr=""/>
          <p:cNvPicPr/>
          <p:nvPr/>
        </p:nvPicPr>
        <p:blipFill>
          <a:blip r:embed="rId3"/>
          <a:stretch/>
        </p:blipFill>
        <p:spPr>
          <a:xfrm>
            <a:off x="603360" y="1427040"/>
            <a:ext cx="7937280" cy="6546960"/>
          </a:xfrm>
          <a:prstGeom prst="rect">
            <a:avLst/>
          </a:prstGeom>
          <a:ln w="0">
            <a:noFill/>
          </a:ln>
        </p:spPr>
      </p:pic>
      <p:sp>
        <p:nvSpPr>
          <p:cNvPr id="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4" name="PlaceHolder 3"/>
          <p:cNvSpPr>
            <a:spLocks noGrp="1"/>
          </p:cNvSpPr>
          <p:nvPr>
            <p:ph type="dt" idx="4"/>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10695-74D5-435F-B242-E5B34F0BF783}"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5"/>
          <p:cNvSpPr>
            <a:spLocks noGrp="1"/>
          </p:cNvSpPr>
          <p:nvPr>
            <p:ph type="sldNum" idx="6"/>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58D6E-EA41-4F16-A377-0DF6BDC31E0F}"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8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87" name="PlaceHolder 3"/>
          <p:cNvSpPr>
            <a:spLocks noGrp="1"/>
          </p:cNvSpPr>
          <p:nvPr>
            <p:ph type="dt" idx="7"/>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DF2D9-BF5E-49FC-BC80-54BB75EE318C}"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 name="PlaceHolder 5"/>
          <p:cNvSpPr>
            <a:spLocks noGrp="1"/>
          </p:cNvSpPr>
          <p:nvPr>
            <p:ph type="sldNum" idx="9"/>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8B263-366C-4E59-B4F5-7A62B91EEF3D}"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2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30" name="PlaceHolder 3"/>
          <p:cNvSpPr>
            <a:spLocks noGrp="1"/>
          </p:cNvSpPr>
          <p:nvPr>
            <p:ph type="dt" idx="10"/>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A35C3-2D32-4770-8E4F-753A6BA30FDD}"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131" name="PlaceHolder 4"/>
          <p:cNvSpPr>
            <a:spLocks noGrp="1"/>
          </p:cNvSpPr>
          <p:nvPr>
            <p:ph type="ftr" idx="11"/>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2" name="PlaceHolder 5"/>
          <p:cNvSpPr>
            <a:spLocks noGrp="1"/>
          </p:cNvSpPr>
          <p:nvPr>
            <p:ph type="sldNum" idx="12"/>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69FC7-5956-407D-B125-EFB07AC7DCE0}"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72"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73" name="PlaceHolder 3"/>
          <p:cNvSpPr>
            <a:spLocks noGrp="1"/>
          </p:cNvSpPr>
          <p:nvPr>
            <p:ph type="dt" idx="13"/>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147FE-528B-4835-9E7A-3DC2F3A5068E}"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174" name="PlaceHolder 4"/>
          <p:cNvSpPr>
            <a:spLocks noGrp="1"/>
          </p:cNvSpPr>
          <p:nvPr>
            <p:ph type="ftr" idx="14"/>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PlaceHolder 5"/>
          <p:cNvSpPr>
            <a:spLocks noGrp="1"/>
          </p:cNvSpPr>
          <p:nvPr>
            <p:ph type="sldNum" idx="15"/>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B97F5-8162-49E1-92C8-EFF0757A8939}"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Freeform 8"/>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Freeform 9"/>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Freeform 10"/>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Freeform 11"/>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Freeform 12"/>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Freeform 13"/>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2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22" name="PlaceHolder 3"/>
          <p:cNvSpPr>
            <a:spLocks noGrp="1"/>
          </p:cNvSpPr>
          <p:nvPr>
            <p:ph type="dt" idx="16"/>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76670-8310-4843-BB3F-0F8B1D8B7A39}"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223" name="PlaceHolder 4"/>
          <p:cNvSpPr>
            <a:spLocks noGrp="1"/>
          </p:cNvSpPr>
          <p:nvPr>
            <p:ph type="ftr" idx="17"/>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4" name="PlaceHolder 5"/>
          <p:cNvSpPr>
            <a:spLocks noGrp="1"/>
          </p:cNvSpPr>
          <p:nvPr>
            <p:ph type="sldNum" idx="18"/>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70EB0-0C42-44A1-A1AC-B42E59150CB3}"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64"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65" name="PlaceHolder 3"/>
          <p:cNvSpPr>
            <a:spLocks noGrp="1"/>
          </p:cNvSpPr>
          <p:nvPr>
            <p:ph type="dt" idx="19"/>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0F9EE-6247-4F3E-AFEC-BF6378F45A3E}"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266" name="PlaceHolder 4"/>
          <p:cNvSpPr>
            <a:spLocks noGrp="1"/>
          </p:cNvSpPr>
          <p:nvPr>
            <p:ph type="ftr" idx="20"/>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PlaceHolder 5"/>
          <p:cNvSpPr>
            <a:spLocks noGrp="1"/>
          </p:cNvSpPr>
          <p:nvPr>
            <p:ph type="sldNum" idx="21"/>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B4261-E031-404B-8F15-7B7A0EFFDCE4}"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5"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07"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08" name="PlaceHolder 3"/>
          <p:cNvSpPr>
            <a:spLocks noGrp="1"/>
          </p:cNvSpPr>
          <p:nvPr>
            <p:ph type="dt" idx="22"/>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C2AD3-FC10-4822-9060-A52A88DD3FF2}"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309" name="PlaceHolder 4"/>
          <p:cNvSpPr>
            <a:spLocks noGrp="1"/>
          </p:cNvSpPr>
          <p:nvPr>
            <p:ph type="ftr" idx="23"/>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0" name="PlaceHolder 5"/>
          <p:cNvSpPr>
            <a:spLocks noGrp="1"/>
          </p:cNvSpPr>
          <p:nvPr>
            <p:ph type="sldNum" idx="24"/>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0C09B-8A5E-4958-BDF9-F05D51CDB0F6}"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4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50" name="PlaceHolder 3"/>
          <p:cNvSpPr>
            <a:spLocks noGrp="1"/>
          </p:cNvSpPr>
          <p:nvPr>
            <p:ph type="dt" idx="25"/>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759EA-34D5-422B-B96C-6A7087B11BD8}" type="datetime">
              <a:rPr b="0" lang="en-US" sz="1100" spc="-1" strike="noStrike">
                <a:solidFill>
                  <a:srgbClr val="bfbfbf"/>
                </a:solidFill>
                <a:latin typeface="Times New Roman"/>
              </a:rPr>
              <a:t>07/29/26</a:t>
            </a:fld>
            <a:endParaRPr b="0" lang="en-US" sz="1100" spc="-1" strike="noStrike">
              <a:solidFill>
                <a:srgbClr val="000000"/>
              </a:solidFill>
              <a:latin typeface="Times New Roman"/>
            </a:endParaRPr>
          </a:p>
        </p:txBody>
      </p:sp>
      <p:sp>
        <p:nvSpPr>
          <p:cNvPr id="351" name="PlaceHolder 4"/>
          <p:cNvSpPr>
            <a:spLocks noGrp="1"/>
          </p:cNvSpPr>
          <p:nvPr>
            <p:ph type="ftr" idx="26"/>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2" name="PlaceHolder 5"/>
          <p:cNvSpPr>
            <a:spLocks noGrp="1"/>
          </p:cNvSpPr>
          <p:nvPr>
            <p:ph type="sldNum" idx="27"/>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FEACD-3BCE-4BBF-9044-E8BBEFB8E17D}"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Rogers,%20E.%20M.%20(2003).%20Diffusion%20of%20innovations%20(5th%20ed.).%20New%20York/%20Free%20Press.%20Walker,%20G.%20(2005).%20The%20last%20word/%20The%20future%20of%20the%20Tablet%20PC.%20Retrieved%20July%207,%202009,%20from%20Veritas%20et%20Vesis%20website/%20http/::www.veritasetvisus.com:VVTP-2,%20Walker.pdf" TargetMode="External"/><Relationship Id="rId3" Type="http://schemas.openxmlformats.org/officeDocument/2006/relationships/hyperlink" Target="http://www.engr.psu.edu/ae/cic/projects/tablet_pc.aspx?p=24" TargetMode="External"/><Relationship Id="rId4" Type="http://schemas.openxmlformats.org/officeDocument/2006/relationships/hyperlink" Target="http://www.pcworld.com/article/114383/tablet_pcs_go_to_school.html" TargetMode="External"/><Relationship Id="rId5" Type="http://schemas.openxmlformats.org/officeDocument/2006/relationships/hyperlink" Target="http://www.rm.com/secondary/casestudies/casestudydetail.asp?cref=cs113293" TargetMode="External"/><Relationship Id="rId6" Type="http://schemas.openxmlformats.org/officeDocument/2006/relationships/slideLayout" Target="../slideLayouts/slideLayout49.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ebpronews.com/expertarticles/2005/12/20/a-brief-history-of-tablet-pcs" TargetMode="External"/><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indowsxp/tabletpc/default.mspx" TargetMode="External"/><Relationship Id="rId3" Type="http://schemas.openxmlformats.org/officeDocument/2006/relationships/hyperlink" Target="http://www.motioncomputing.com/" TargetMode="External"/><Relationship Id="rId4" Type="http://schemas.openxmlformats.org/officeDocument/2006/relationships/hyperlink" Target="http://www.tabletpctalk.com/" TargetMode="External"/><Relationship Id="rId5" Type="http://schemas.openxmlformats.org/officeDocument/2006/relationships/hyperlink" Target="http://www.microsoft.com/education/products/overview.aspx#buildingblocks" TargetMode="External"/><Relationship Id="rId6" Type="http://schemas.openxmlformats.org/officeDocument/2006/relationships/hyperlink" Target="http://www.pencomputing.com/q-and-a/advice-tpc-k12.html" TargetMode="External"/><Relationship Id="rId7" Type="http://schemas.openxmlformats.org/officeDocument/2006/relationships/hyperlink" Target="http://www.tabletpcreview.com/" TargetMode="External"/><Relationship Id="rId8" Type="http://schemas.openxmlformats.org/officeDocument/2006/relationships/hyperlink" Target="http://www.robertheiny.com/2009/06/read-tablet-pc-reviews-before-deciding.html" TargetMode="External"/><Relationship Id="rId9" Type="http://schemas.openxmlformats.org/officeDocument/2006/relationships/hyperlink" Target="http://www.microsoft.com/windowsxp/tabletpc/evaluation/tours/educationpack/pop_01.html" TargetMode="External"/><Relationship Id="rId10" Type="http://schemas.openxmlformats.org/officeDocument/2006/relationships/slideLayout" Target="../slideLayouts/slideLayout37.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orum.tabletpcreview.com/showthread.php?t=249" TargetMode="External"/><Relationship Id="rId3" Type="http://schemas.openxmlformats.org/officeDocument/2006/relationships/hyperlink" Target="http://chronicle.com/wiredcampus/article/3827/why-a-tablet-pc-beats-your-whiteboard" TargetMode="External"/><Relationship Id="rId4" Type="http://schemas.openxmlformats.org/officeDocument/2006/relationships/hyperlink" Target="http://www.nytimes.com/2004/09/09/technology/circuits/09jott.html?_r=1&amp;ex=1095743441&amp;ei=1&amp;en=327395b18725c278" TargetMode="External"/><Relationship Id="rId5" Type="http://schemas.openxmlformats.org/officeDocument/2006/relationships/hyperlink" Target="http://www.e-ledesma.com/games.htm" TargetMode="External"/><Relationship Id="rId6" Type="http://schemas.openxmlformats.org/officeDocument/2006/relationships/hyperlink" Target="http://www.engr.psu.edu/ae/cic/projects/tablet_pc.aspx?p=24" TargetMode="External"/><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abletpcpost.com/index.php" TargetMode="External"/><Relationship Id="rId3" Type="http://schemas.openxmlformats.org/officeDocument/2006/relationships/hyperlink" Target="http://www.communities.hp.com/online/blogs/highered/archive/2009/03/10/must-see-video-tablet-pcs-at-clemson-university.aspx"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6" name="Title 1" descr=""/>
          <p:cNvPicPr/>
          <p:nvPr/>
        </p:nvPicPr>
        <p:blipFill>
          <a:blip r:embed="rId2"/>
          <a:stretch/>
        </p:blipFill>
        <p:spPr>
          <a:xfrm>
            <a:off x="652320" y="1530360"/>
            <a:ext cx="7839360" cy="1646280"/>
          </a:xfrm>
          <a:prstGeom prst="rect">
            <a:avLst/>
          </a:prstGeom>
          <a:ln w="0">
            <a:noFill/>
          </a:ln>
        </p:spPr>
      </p:pic>
      <p:pic>
        <p:nvPicPr>
          <p:cNvPr id="567" name="Subtitle 2" descr=""/>
          <p:cNvPicPr/>
          <p:nvPr/>
        </p:nvPicPr>
        <p:blipFill>
          <a:blip r:embed="rId3"/>
          <a:stretch/>
        </p:blipFill>
        <p:spPr>
          <a:xfrm>
            <a:off x="652320" y="3213000"/>
            <a:ext cx="7839360" cy="871560"/>
          </a:xfrm>
          <a:prstGeom prst="rect">
            <a:avLst/>
          </a:prstGeom>
          <a:ln w="0">
            <a:noFill/>
          </a:ln>
        </p:spPr>
      </p:pic>
      <p:pic>
        <p:nvPicPr>
          <p:cNvPr id="568" name="Picture 3" descr="j0432596.png"/>
          <p:cNvPicPr/>
          <p:nvPr/>
        </p:nvPicPr>
        <p:blipFill>
          <a:blip r:embed="rId4"/>
          <a:stretch/>
        </p:blipFill>
        <p:spPr>
          <a:xfrm>
            <a:off x="6808680" y="468792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641160" y="380520"/>
            <a:ext cx="374940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arly Adopters</a:t>
            </a:r>
            <a:endParaRPr b="0" lang="en-US" sz="2800" spc="-1" strike="noStrike">
              <a:solidFill>
                <a:srgbClr val="ffffff"/>
              </a:solidFill>
              <a:latin typeface="Corbel"/>
            </a:endParaRPr>
          </a:p>
        </p:txBody>
      </p:sp>
      <p:sp>
        <p:nvSpPr>
          <p:cNvPr id="589" name=""/>
          <p:cNvSpPr txBox="1"/>
          <p:nvPr/>
        </p:nvSpPr>
        <p:spPr>
          <a:xfrm>
            <a:off x="641160" y="1752480"/>
            <a:ext cx="3749400" cy="388944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2"/>
              </a:rPr>
              <a:t>High school students and teacher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3"/>
              </a:rPr>
              <a:t>Engineering educa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4"/>
              </a:rPr>
              <a:t>Elementary School in Ontario</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5"/>
              </a:rPr>
              <a:t>Cornwallis Technology College</a:t>
            </a:r>
            <a:endParaRPr b="0" lang="en-US" sz="2400" spc="-1" strike="noStrike">
              <a:solidFill>
                <a:srgbClr val="ffffff"/>
              </a:solidFill>
              <a:latin typeface="Corbel"/>
            </a:endParaRPr>
          </a:p>
        </p:txBody>
      </p:sp>
      <p:sp>
        <p:nvSpPr>
          <p:cNvPr id="590" name="PlaceHolder 2"/>
          <p:cNvSpPr>
            <a:spLocks noGrp="1"/>
          </p:cNvSpPr>
          <p:nvPr>
            <p:ph/>
          </p:nvPr>
        </p:nvSpPr>
        <p:spPr>
          <a:xfrm>
            <a:off x="4752720" y="380520"/>
            <a:ext cx="374796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ggards</a:t>
            </a:r>
            <a:endParaRPr b="0" lang="en-US" sz="2800" spc="-1" strike="noStrike">
              <a:solidFill>
                <a:srgbClr val="ffffff"/>
              </a:solidFill>
              <a:latin typeface="Corbel"/>
            </a:endParaRPr>
          </a:p>
        </p:txBody>
      </p:sp>
      <p:sp>
        <p:nvSpPr>
          <p:cNvPr id="591" name=""/>
          <p:cNvSpPr txBox="1"/>
          <p:nvPr/>
        </p:nvSpPr>
        <p:spPr>
          <a:xfrm>
            <a:off x="4752720" y="1752480"/>
            <a:ext cx="3747960" cy="388944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ack of success with early pen computing</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oor supporters of technolog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Perceived Attributes</a:t>
            </a:r>
            <a:endParaRPr b="0" lang="en-US" sz="4800" spc="-1" strike="noStrike">
              <a:solidFill>
                <a:srgbClr val="ffffff"/>
              </a:solidFill>
              <a:latin typeface="Corbel"/>
            </a:endParaRPr>
          </a:p>
        </p:txBody>
      </p:sp>
      <p:sp>
        <p:nvSpPr>
          <p:cNvPr id="593"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lative advantage</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patibilit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References</a:t>
            </a:r>
            <a:endParaRPr b="0" lang="en-US" sz="4800" spc="-1" strike="noStrike">
              <a:solidFill>
                <a:srgbClr val="ffffff"/>
              </a:solidFill>
              <a:latin typeface="Corbel"/>
            </a:endParaRPr>
          </a:p>
        </p:txBody>
      </p:sp>
      <p:sp>
        <p:nvSpPr>
          <p:cNvPr id="595"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lickenstorfer, C. (2005). A brief history of Tablet PCs. Retrieved June 24, 2005 from WebProNews website: </a:t>
            </a:r>
            <a:r>
              <a:rPr b="0" lang="en-US" sz="2400" spc="-1" strike="noStrike" u="sng">
                <a:solidFill>
                  <a:srgbClr val="6699ff"/>
                </a:solidFill>
                <a:uFillTx/>
                <a:latin typeface="Corbel"/>
                <a:hlinkClick r:id="rId2"/>
              </a:rPr>
              <a:t>http://www.webpronews.com/expertarticles/2005/12/20/a-brief-history-of-tablet-pcs</a:t>
            </a:r>
            <a:endParaRPr b="0" lang="en-US" sz="2400" spc="-1" strike="noStrike">
              <a:solidFill>
                <a:srgbClr val="ffffff"/>
              </a:solidFill>
              <a:latin typeface="Corbel"/>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tzgerald, T. J. (2004). The tablet PC takes it place in the classroom. Retrieved July 2, 2009 from New York Times’ website: http://www.nytimes.com/2004/09/09/technology/circuits/09jott.html?_r=3&amp;ex=1095743441&amp;ei=1&amp;en=327395b18725c278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References</a:t>
            </a:r>
            <a:endParaRPr b="0" lang="en-US" sz="4800" spc="-1" strike="noStrike">
              <a:solidFill>
                <a:srgbClr val="ffffff"/>
              </a:solidFill>
              <a:latin typeface="Corbel"/>
            </a:endParaRPr>
          </a:p>
        </p:txBody>
      </p:sp>
      <p:sp>
        <p:nvSpPr>
          <p:cNvPr id="597" name=""/>
          <p:cNvSpPr txBox="1"/>
          <p:nvPr/>
        </p:nvSpPr>
        <p:spPr>
          <a:xfrm>
            <a:off x="618840" y="1599840"/>
            <a:ext cx="7878600" cy="4638600"/>
          </a:xfrm>
          <a:prstGeom prst="rect">
            <a:avLst/>
          </a:prstGeom>
          <a:noFill/>
          <a:ln w="0">
            <a:noFill/>
          </a:ln>
        </p:spPr>
        <p:txBody>
          <a:bodyPr anchor="t">
            <a:normAutofit fontScale="95000"/>
          </a:bodyPr>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Reid, R. (2004). Tablet PCs go to school. Retrieved July 15, 2009 from PC World’s website: http://www.pcworld.com/article/114383/tablet_pcs_go_to_school.html </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Rogers, E. M. (2003). </a:t>
            </a:r>
            <a:r>
              <a:rPr b="0" i="1" lang="en-US" sz="1800" spc="-1" strike="noStrike">
                <a:solidFill>
                  <a:srgbClr val="ffffff"/>
                </a:solidFill>
                <a:latin typeface="Corbel"/>
              </a:rPr>
              <a:t>Diffusion of innovations (5th ed.). New York: Free Press.</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ablet PCs in Engineering Education. Retrieved July 15, 2009 from Penn State University’s website: http://www.engr.psu.edu/ae/cic/projects/tablet_pc.aspx?p=24 </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sing RM Tablet PC at the Cornwallis School. (2009). Retrieved July 14, 2009 from http://www.rm.com/secondary/casestudies/casestudydetail.asp?cref=cs113293 </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alker, G. (2005). The last word: The future of the Tablet PC. Retrieved July 7, 2009, from Veritas et Vesis website: http://www.veritasetvisus.com/VVTP-2,%20Walker.pdf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1: Need</a:t>
            </a:r>
            <a:endParaRPr b="0" lang="en-US" sz="4800" spc="-1" strike="noStrike">
              <a:solidFill>
                <a:srgbClr val="ffffff"/>
              </a:solidFill>
              <a:latin typeface="Corbel"/>
            </a:endParaRPr>
          </a:p>
        </p:txBody>
      </p:sp>
      <p:sp>
        <p:nvSpPr>
          <p:cNvPr id="570"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bility to hand write instead of type</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apture signatures electronically</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ortable touch scree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2: Research</a:t>
            </a:r>
            <a:endParaRPr b="0" lang="en-US" sz="4800" spc="-1" strike="noStrike">
              <a:solidFill>
                <a:srgbClr val="ffffff"/>
              </a:solidFill>
              <a:latin typeface="Corbel"/>
            </a:endParaRPr>
          </a:p>
        </p:txBody>
      </p:sp>
      <p:sp>
        <p:nvSpPr>
          <p:cNvPr id="572"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arly pen technology in late 1980s (Blickenstorfer, 2005)</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andwriting recogni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estorWriter handwriting recognizer</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91 started hype for pen computing (Blickenstorfer, 2005)</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en Extensions for Windows 3.1</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3: Development</a:t>
            </a:r>
            <a:endParaRPr b="0" lang="en-US" sz="4800" spc="-1" strike="noStrike">
              <a:solidFill>
                <a:srgbClr val="ffffff"/>
              </a:solidFill>
              <a:latin typeface="Corbel"/>
            </a:endParaRPr>
          </a:p>
        </p:txBody>
      </p:sp>
      <p:sp>
        <p:nvSpPr>
          <p:cNvPr id="574" name=""/>
          <p:cNvSpPr txBox="1"/>
          <p:nvPr/>
        </p:nvSpPr>
        <p:spPr>
          <a:xfrm>
            <a:off x="618840" y="1599840"/>
            <a:ext cx="7878600" cy="4638600"/>
          </a:xfrm>
          <a:prstGeom prst="rect">
            <a:avLst/>
          </a:prstGeom>
          <a:noFill/>
          <a:ln w="0">
            <a:noFill/>
          </a:ln>
        </p:spPr>
        <p:txBody>
          <a:bodyPr anchor="t">
            <a:normAutofit fontScale="97000"/>
          </a:bodyPr>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1992 products released</a:t>
            </a:r>
            <a:endParaRPr b="0" lang="en-US" sz="1900" spc="-1" strike="noStrike">
              <a:solidFill>
                <a:srgbClr val="ffffff"/>
              </a:solidFill>
              <a:latin typeface="Corbel"/>
            </a:endParaRPr>
          </a:p>
          <a:p>
            <a:pPr lvl="1" marL="664920" indent="-326160">
              <a:lnSpc>
                <a:spcPct val="90000"/>
              </a:lnSpc>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GO Corporation PenPoint</a:t>
            </a:r>
            <a:endParaRPr b="0" lang="en-US" sz="1900" spc="-1" strike="noStrike">
              <a:solidFill>
                <a:srgbClr val="ffffff"/>
              </a:solidFill>
              <a:latin typeface="Corbel"/>
            </a:endParaRPr>
          </a:p>
          <a:p>
            <a:pPr lvl="1" marL="664920" indent="-326160">
              <a:lnSpc>
                <a:spcPct val="90000"/>
              </a:lnSpc>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Lexicus Longhand handwriting recognition software</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IBM ThinkPad</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Between 1992-1994 number of companies released pen computers</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echnology was not ready</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oo difficult to replace keyboard input with pen &amp; voice input</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ablet PCs released by Microsoft in 2002</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Uses “Digital Ink” as well as handwriting recognition</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Has keyboard</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4: Commercialization</a:t>
            </a:r>
            <a:endParaRPr b="0" lang="en-US" sz="4800" spc="-1" strike="noStrike">
              <a:solidFill>
                <a:srgbClr val="ffffff"/>
              </a:solidFill>
              <a:latin typeface="Corbel"/>
            </a:endParaRPr>
          </a:p>
        </p:txBody>
      </p:sp>
      <p:sp>
        <p:nvSpPr>
          <p:cNvPr id="576"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 early 1990s, press enthusiastic then critical</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ig names in computing</a:t>
            </a:r>
            <a:endParaRPr b="0" lang="en-US" sz="2400" spc="-1" strike="noStrike">
              <a:solidFill>
                <a:srgbClr val="ffffff"/>
              </a:solidFill>
              <a:latin typeface="Corbel"/>
            </a:endParaRPr>
          </a:p>
          <a:p>
            <a:pPr lvl="1" marL="685800" indent="-336600">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Microsoft, IBM, Compaq</a:t>
            </a:r>
            <a:endParaRPr b="0" lang="en-US" sz="22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O lost $70 mill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icrosoft promoting “Digital Ink” features &amp; downplaying handwriting recogni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Innovation-Decision Process</a:t>
            </a:r>
            <a:endParaRPr b="0" lang="en-US" sz="4800" spc="-1" strike="noStrike">
              <a:solidFill>
                <a:srgbClr val="ffffff"/>
              </a:solidFill>
              <a:latin typeface="Corbel"/>
            </a:endParaRPr>
          </a:p>
        </p:txBody>
      </p:sp>
      <p:sp>
        <p:nvSpPr>
          <p:cNvPr id="578" name=""/>
          <p:cNvSpPr txBox="1"/>
          <p:nvPr/>
        </p:nvSpPr>
        <p:spPr>
          <a:xfrm>
            <a:off x="641160" y="1600200"/>
            <a:ext cx="3749400" cy="46512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Knowledg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Downplay of voice/handwriting </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echnological advancements</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2"/>
              </a:rPr>
              <a:t>Microsoft Tablet PC Home Pag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3"/>
              </a:rPr>
              <a:t>Motion Computing</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4"/>
              </a:rPr>
              <a:t>Tablet PC Talk</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5"/>
              </a:rPr>
              <a:t>Microsoft Education Product Pag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6"/>
              </a:rPr>
              <a:t>Things to think about before buying</a:t>
            </a:r>
            <a:endParaRPr b="0" lang="en-US" sz="1900" spc="-1" strike="noStrike">
              <a:solidFill>
                <a:srgbClr val="ffffff"/>
              </a:solidFill>
              <a:latin typeface="Corbel"/>
            </a:endParaRPr>
          </a:p>
        </p:txBody>
      </p:sp>
      <p:sp>
        <p:nvSpPr>
          <p:cNvPr id="579" name=""/>
          <p:cNvSpPr txBox="1"/>
          <p:nvPr/>
        </p:nvSpPr>
        <p:spPr>
          <a:xfrm>
            <a:off x="4749480" y="1600200"/>
            <a:ext cx="3747960" cy="46512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Persuasion</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7"/>
              </a:rPr>
              <a:t>Tablet PC Review</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8"/>
              </a:rPr>
              <a:t>Tablet PC Education Blog</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Web Buyer’s Guid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9"/>
              </a:rPr>
              <a:t>Microsoft Commercial</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orbel"/>
              </a:rPr>
              <a:t>Innovation-Decision Process Continued</a:t>
            </a:r>
            <a:endParaRPr b="0" lang="en-US" sz="3900" spc="-1" strike="noStrike">
              <a:solidFill>
                <a:srgbClr val="ffffff"/>
              </a:solidFill>
              <a:latin typeface="Corbel"/>
            </a:endParaRPr>
          </a:p>
        </p:txBody>
      </p:sp>
      <p:sp>
        <p:nvSpPr>
          <p:cNvPr id="581" name="PlaceHolder 2"/>
          <p:cNvSpPr>
            <a:spLocks noGrp="1"/>
          </p:cNvSpPr>
          <p:nvPr>
            <p:ph/>
          </p:nvPr>
        </p:nvSpPr>
        <p:spPr>
          <a:xfrm>
            <a:off x="641160" y="1533240"/>
            <a:ext cx="374940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cision</a:t>
            </a:r>
            <a:endParaRPr b="0" lang="en-US" sz="2800" spc="-1" strike="noStrike">
              <a:solidFill>
                <a:srgbClr val="ffffff"/>
              </a:solidFill>
              <a:latin typeface="Corbel"/>
            </a:endParaRPr>
          </a:p>
        </p:txBody>
      </p:sp>
      <p:sp>
        <p:nvSpPr>
          <p:cNvPr id="582" name=""/>
          <p:cNvSpPr txBox="1"/>
          <p:nvPr/>
        </p:nvSpPr>
        <p:spPr>
          <a:xfrm>
            <a:off x="641160" y="2361960"/>
            <a:ext cx="3749400" cy="388908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2"/>
              </a:rPr>
              <a:t>Top 10 Benefits of Tablet PCs in Educa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STE Book: </a:t>
            </a:r>
            <a:r>
              <a:rPr b="0" i="1" lang="en-US" sz="2400" spc="-1" strike="noStrike">
                <a:solidFill>
                  <a:srgbClr val="ffffff"/>
                </a:solidFill>
                <a:latin typeface="Corbel"/>
              </a:rPr>
              <a:t>Tablet PCs in K-12 Education</a:t>
            </a:r>
            <a:r>
              <a:rPr b="0" lang="en-US" sz="2400" spc="-1" strike="noStrike">
                <a:solidFill>
                  <a:srgbClr val="ffffff"/>
                </a:solidFill>
                <a:latin typeface="Corbel"/>
              </a:rPr>
              <a:t> by Mike VanMantgem</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3"/>
              </a:rPr>
              <a:t>Tablet PC vs. Whiteboard</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3" name="PlaceHolder 3"/>
          <p:cNvSpPr>
            <a:spLocks noGrp="1"/>
          </p:cNvSpPr>
          <p:nvPr>
            <p:ph/>
          </p:nvPr>
        </p:nvSpPr>
        <p:spPr>
          <a:xfrm>
            <a:off x="4752720" y="1533240"/>
            <a:ext cx="374796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mplementation</a:t>
            </a:r>
            <a:endParaRPr b="0" lang="en-US" sz="2800" spc="-1" strike="noStrike">
              <a:solidFill>
                <a:srgbClr val="ffffff"/>
              </a:solidFill>
              <a:latin typeface="Corbel"/>
            </a:endParaRPr>
          </a:p>
        </p:txBody>
      </p:sp>
      <p:sp>
        <p:nvSpPr>
          <p:cNvPr id="584" name=""/>
          <p:cNvSpPr txBox="1"/>
          <p:nvPr/>
        </p:nvSpPr>
        <p:spPr>
          <a:xfrm>
            <a:off x="4752720" y="2361960"/>
            <a:ext cx="3747960" cy="388908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4"/>
              </a:rPr>
              <a:t>New York Times Article</a:t>
            </a:r>
            <a:r>
              <a:rPr b="0" lang="en-US" sz="2400" spc="-1" strike="noStrike" u="sng">
                <a:solidFill>
                  <a:srgbClr val="ffffff"/>
                </a:solidFill>
                <a:uFillTx/>
                <a:latin typeface="Corbel"/>
              </a:rPr>
              <a:t> (2004)</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5"/>
              </a:rPr>
              <a:t>Game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6"/>
              </a:rPr>
              <a:t>Use in Engineering Educatio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onfirmation</a:t>
            </a:r>
            <a:endParaRPr b="0" lang="en-US" sz="4800" spc="-1" strike="noStrike">
              <a:solidFill>
                <a:srgbClr val="ffffff"/>
              </a:solidFill>
              <a:latin typeface="Corbel"/>
            </a:endParaRPr>
          </a:p>
        </p:txBody>
      </p:sp>
      <p:sp>
        <p:nvSpPr>
          <p:cNvPr id="586"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2"/>
              </a:rPr>
              <a:t>Software available for Tablet PC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yKnow Vision Educational Software</a:t>
            </a:r>
            <a:endParaRPr b="0" lang="en-US" sz="2400" spc="-1" strike="noStrike">
              <a:solidFill>
                <a:srgbClr val="ffffff"/>
              </a:solidFill>
              <a:latin typeface="Corbel"/>
            </a:endParaRPr>
          </a:p>
          <a:p>
            <a:pPr lvl="1" marL="685800" indent="-336600">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Enables students to take notes</a:t>
            </a:r>
            <a:endParaRPr b="0" lang="en-US" sz="2200" spc="-1" strike="noStrike">
              <a:solidFill>
                <a:srgbClr val="ffffff"/>
              </a:solidFill>
              <a:latin typeface="Corbel"/>
            </a:endParaRPr>
          </a:p>
          <a:p>
            <a:pPr lvl="1" marL="685800" indent="-336600">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Notes taken in annotated fashion in content</a:t>
            </a:r>
            <a:endParaRPr b="0" lang="en-US" sz="22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able PC enhancements for existing software (i.e. Microsoft Outlook)</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3"/>
              </a:rPr>
              <a:t>Use of Tablet PCs at Clemson Univerist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7" name="Chart 4" descr=""/>
          <p:cNvPicPr/>
          <p:nvPr/>
        </p:nvPicPr>
        <p:blipFill>
          <a:blip r:embed="rId2"/>
          <a:stretch/>
        </p:blipFill>
        <p:spPr>
          <a:xfrm>
            <a:off x="380880" y="304920"/>
            <a:ext cx="83822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5:28:27Z</dcterms:created>
  <dc:creator>Cindy O'Reilly</dc:creator>
  <dc:description/>
  <dc:language>en-US</dc:language>
  <cp:lastModifiedBy>Cindy O'Reilly</cp:lastModifiedBy>
  <dcterms:modified xsi:type="dcterms:W3CDTF">2009-07-16T17:41:53Z</dcterms:modified>
  <cp:revision>39</cp:revision>
  <dc:subject/>
  <dc:title>Tablet PCs</dc:title>
</cp:coreProperties>
</file>